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72DD-C3EE-4EEF-A715-D4A6A7894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1A36-5BF3-47B5-B1B6-2ABAAF01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E9DC-0930-4D79-B9C0-26804E9E2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D61F-A7DE-4159-9A20-B9957DC80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1072-6AFC-4FDB-9C2A-3586B8FCF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3DBB-72EF-4013-8672-83368C28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51FC-376E-42C2-8E4C-81C976AB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FF58-A969-4442-AECB-B5AAA8BD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3847-53D2-4227-AF8B-20C601B8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AA67-DA3D-4D82-9B1E-2512722E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8BFF-3F09-4E0C-B1A1-DFA6AA07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0DAE-D403-4713-9C1D-9F33337D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6A8E-08E2-4B46-8FF9-9451F9EB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FD9B-26E2-4C9F-B7D1-4BE7625A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9F16-3DBA-4E82-960C-B68CCE43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29F0-E209-496E-BBBD-788D61344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7D9A-00E9-437D-9D8C-9D6A35C7A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3B3A-C82B-4037-A338-220FE1D5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C05C-9986-491C-952C-E4AAEBCD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7E43-A58D-4AFB-AD68-1C9C9FC4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B2F7-C590-4D24-8BC9-5D473846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DADA-6CE4-4079-BF7E-60DB23F5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03F8-3CE7-4C8D-ACD8-131B97E0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608C-F8CB-4EA8-B23F-0A51F438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6C48-AFC3-4803-B68F-0D5BEEA8747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AAB8-167F-43F5-931C-0EAF74EBF33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Papyrus"/>
              </a:rPr>
              <a:t>What is Your True Nature?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Is mankind inherently evil as suggested by William Golding in his novel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Papyrus"/>
              </a:rPr>
              <a:t>Lord of the Fli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Papyrus"/>
              </a:rPr>
              <a:t>Unit Summar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We will investigate how an author’s use of literary elements such as theme, setting, characterization and conflict affect your attitude toward the novel and the charact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We will look at the  role that your own prior experiences play in your interpretation of the nove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We will improve your ability to adhere to the standard conventions of the English langu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We will try to answer the age old question: Is man inherently evil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Papyrus"/>
              </a:rPr>
              <a:t>How will we do this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Read the novel, T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Papyrus"/>
              </a:rPr>
              <a:t>he Lord of the Fl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Debate the goodness versus the evil in the charac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Persuade others to agree with which characters you feel is evil and who is g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Hold a mock trial in which we put the evil character(s) on tr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Papyrus"/>
              </a:rPr>
              <a:t>How will you be assessed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Daily participation: wiki, journals, conferences, self assessment checkli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Use of the writing process to assist in adherence to standard conventions of the English langu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Final Project: Mock Tr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Papyrus"/>
              </a:rPr>
              <a:t>Why does this matter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Writing skills are a necessary tool that you will need for the rest of your lif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This is your chance to use a school assignment to share your personal experiences and opinions and try to influence ot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Many of these skills will help to improve your grades on upcoming regents such as Global 10, US History and English 1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Papyru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18:05:54Z</dcterms:created>
  <dc:creator>Eldred Central School</dc:creator>
  <dc:description/>
  <dc:language>en-US</dc:language>
  <cp:lastModifiedBy>Eldred Central School</cp:lastModifiedBy>
  <dcterms:modified xsi:type="dcterms:W3CDTF">2010-06-30T18:27:59Z</dcterms:modified>
  <cp:revision>2</cp:revision>
  <dc:subject/>
  <dc:title>What is Your True Nature?</dc:title>
</cp:coreProperties>
</file>